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211-79B2-4763-BC41-14C2E483A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740F-0CD9-4996-9CBC-1A3B9BB76B4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C1A-EE6A-4CE1-BE87-0FCA4AE541E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ypes of questions I am asking – these are high level questions, assumes you have read the book, but looks across bigger picture, rather than selecting isolated det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’s house; Characters: Hollis, Mustard Women, Steven, The Old Man, Josie) ; Problem: Hollis doesn’t have a family (she was abandoned on p. 48); longs to belong; some issue with Steven and how she messed everything up (p. 29); She’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507-C5EC-4ED2-A1E3-E581471598F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2F5-2623-40B7-8D77-D56ED80DDB6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0814-D405-4C75-BE60-610230621BE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2EEC-4D09-4035-AC45-71C02057439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CC7-7BE6-47EB-98A9-BB5D27921B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6E9-2732-40DE-85A2-18553F914FC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D33-73F6-4847-8130-B2187483EFD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’s house; Characters: Hollis, Mustard Women, Steven, The Old Man, Josie) ; Problem: Hollis doesn’t have a family (she was abandoned on p. 48); longs to belong; some issue with Steven and how she messed everything up (p. 29); She’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06E-4870-4BED-B0F7-8B5635AF2D5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548-EAAB-4257-92B6-348914B2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D4E-B618-4500-AFAF-D69B8B27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4BA-13F0-4C37-A2D9-0CEF60B0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C52-DBE7-4B13-A1CA-A56DBB5C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454-AF12-4650-A9BB-91BA77E2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7483-30A8-4633-A390-4658A49F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6DE-1AC4-4042-84C6-391F925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B10D-C4E3-47E9-87A7-A022586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860C-73C0-4F71-A4D7-D960094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AB00-B689-4D3A-97E8-46471A1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E1F-470D-49BD-B578-8EB6DBD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50C-FBF6-4583-842E-69793DA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2A3-007D-4C9A-9008-F28CB08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7F3B-0DE1-437E-A02A-CF28F39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A88E-8355-4FA0-BCC7-1B0F751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E198-F0AC-47C6-8FB1-17DF4FD2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3C5E-FC1A-4DF4-B7F0-255C50CB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8F1-B041-485C-A1FA-1A3C05A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489-F016-4DFF-B038-D43CDB4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48C-9EF8-4A30-A039-032BB462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B9A-E0D1-40F6-90B2-43FA82E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894-52FF-4D27-A8B7-B0B7354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678-0DAC-477A-A2C5-5D7157F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74E-8882-4724-BD16-D6B6468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7C9-7DAE-4ECB-BCEF-423CF6DE6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92B-025D-4055-9FD6-B6A057AEBE5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lements of Realistic Fiction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&amp; Author’s Craft 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Guided Reading Instruction: Questioning Strategies and Inferring Character Trai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ng to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efer to your Author’s Craft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ong Character Developmen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ing Situation requiring problem solv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ints of an Optimistic Messag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w insights into relationships or broader range of experiences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esting patterns you are notic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ncorporating these discussions into guided reading Gr. 3-6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se discussions require high-level thinking; moving beyond recall and comprehension of isolated details (Who?, What?, When?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nections between story events? How? Why? What do you think? How do these ideas reflect theme of…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udents need modeling &amp; support in how to answer &amp; eventually ask themselves questions that keep them engaged with the sto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’t spend all their time looking for answers that are not “right there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addition, 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’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swer questions in your handout for Vacation Under the Volcano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erate and label your own questions using Hollis Woods, p. 18-20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ving Beyond Recall –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Making Inferences About Character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killed authors develop “deep characters” over the course of a story – How can we learn more about these character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nferences (educated guesses) based on text clues and background knowledg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ing inferencing to identify character traits: Draw a conclusion about a character’s qualities from what the character says, this, and does (actions, thoughts, feelings, word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Building Vocabulary while Making Inferences About Characters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tudents to move beyond  “nice”, “happy”, and “angry” to depict strong characters in quality litera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your handout for vocabulary idea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the events in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Hollis Woo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ges 1-54 to identify three character traits (and supporting evidence) for Hollis at the beginning of the no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ep these elements in mind as you continue reading….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’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“author’s craft”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viewing Today’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. 4-5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 qualities of realistic fiction and initial “big ideas”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Offer impressions related to story elements and Author’s Cra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methods for Guiding Reading Discussions and Responses to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cing: Identifying Character Tra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. 4-5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 qualities of realistic fiction and initial “big ideas”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Offer impressions related to story elements and Author’s Cra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methods for Guiding Reading Discussions and Responses to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cing: Identifying Character Tra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Tuesday Nov. 2: Continue reading Hollis Woods (pp. 55-109) &amp; filling out summary shee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2 (Guided Text Discussions)  Hmwk:  Finish reading Hollis Wood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4 (Lit Circles &amp; Summarizing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9 (Learning Objectives &amp; GL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e Dates Changed: Book Activity 7 [text queries] and 8 [lit circles] (Now due Nov. 9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v. 10: Planning Sheet Lesson Plan Du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 &amp; 5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-Fiction, Fiction, and Fantasy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…in 4</a:t>
            </a:r>
            <a:r>
              <a:rPr b="0" lang="en-US" sz="4000" spc="-1" strike="noStrike" baseline="30000">
                <a:solidFill>
                  <a:srgbClr val="32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grade language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on-Fi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(TRUE) a story based on real things that really happene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i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(PRETEND) a story that is prete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 story based on things that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could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ppen in real life, but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didn’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 story based on things that could never happen in real life (magic, time tra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arrative stories grounded in reality with believable characters, situations, and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flects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contemporary life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; takes place in familiar settings; and presents common situations with which the reader can identify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tagonists fac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real-life problem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buse, drugs, disability, death) and mature from the life experie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ery popular genre (book and authors have won many award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, setting, character, theme, point of view*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coming One’s Own Pers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nsition from child and growing into an adul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llenging relationships, transitions, struggles with human issues such as friendship, love, or acceptance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ping with Problems of the Human Condi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hysical/emotional challenges and ag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ving In A Diverse Worl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acial, ethnic, cultural diversity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r Kid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mily stories, school stories, animal stories, adventure/survival stories, humorous stories, mysteries, serious sto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7560" y="63244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ifer, Hickman, &amp; Hepler (2007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with effective instruc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ders gain new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insights into themselves and peer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in the context of realistic relationships and problems we face in our lives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model of confronting life experien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where the reader can serve as a spectator (watch reality, from a safe distance, as opposed to escaping from it with fantasy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epicts life in other cultures, geographic or economic regions which foster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broader view of the worl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What’s the best way to sum up the big ideas in narrative text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’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“author’s craft”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uthor’s Craf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ols and techniques of language and storytelling that an author uses to craft a stor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arrative elemen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setting, theme, &amp;  characterization – how authors convey information about these elemen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ry Device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lliteration, allusion, metaphor, parallel structure, simile, etc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11:54Z</dcterms:created>
  <dc:creator>Julie Coiro</dc:creator>
  <dc:description/>
  <dc:language>en-US</dc:language>
  <cp:lastModifiedBy>Julie Coiro</cp:lastModifiedBy>
  <cp:lastPrinted>2009-10-19T14:47:12Z</cp:lastPrinted>
  <dcterms:modified xsi:type="dcterms:W3CDTF">2010-10-27T19:19:59Z</dcterms:modified>
  <cp:revision>339</cp:revision>
  <dc:subject/>
  <dc:title>Metacognitive Strategy Instruction to Enhance Reading Comprehension</dc:title>
</cp:coreProperties>
</file>